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CB38-E6CE-4A9F-A1B8-A9C433225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1316-CC34-42F2-BE42-696690DD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ECDC-FEE4-4999-BA5C-FFB7F461B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7059-13FF-45CD-80A6-4FC5A6FDD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4A2B-19E9-4B4F-909E-64653FC9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151C-B213-41B0-9988-6E620092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05B4-E7D9-4E46-A07F-03E8D9D8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B39C-D856-4227-A410-369B3423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2928-8C75-449A-B62F-AC8AA029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8E0B-4932-4D74-92FD-6797C713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D6BD-5611-453C-AC4D-64456BC2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D36A-EC10-4BCB-9873-CDD8B132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efd03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76320">
            <a:solidFill>
              <a:srgbClr val="6efd03"/>
            </a:solidFill>
            <a:miter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lvl="1" marL="542160" indent="-2084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lvl="2" marL="834120" indent="-1666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lvl="3" marL="1167840" indent="-16668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lvl="4" marL="1501560" indent="-16668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lvl="5" marL="1501560" indent="-16668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lvl="6" marL="1501560" indent="-16668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C19D-D1D4-4F6A-BECA-03595C889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earcubscience.wikispaces.com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solidFill>
            <a:srgbClr val="6efd03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Good Morning 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solidFill>
            <a:srgbClr val="ffffff"/>
          </a:solidFill>
          <a:ln w="76320">
            <a:solidFill>
              <a:srgbClr val="6efd03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ursda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pril 29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efd03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TUDY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76320">
            <a:solidFill>
              <a:srgbClr val="6efd0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first three rows of the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periodic tabl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Know the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hemical Symbol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of Element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efd03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tom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76320">
            <a:solidFill>
              <a:srgbClr val="6efd0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Comic Sans MS"/>
              </a:rPr>
              <a:t>Protons</a:t>
            </a:r>
            <a:r>
              <a:rPr b="0" lang="en-US" sz="4800" spc="-1" strike="noStrike">
                <a:solidFill>
                  <a:srgbClr val="003366"/>
                </a:solidFill>
                <a:latin typeface="Comic Sans MS"/>
              </a:rPr>
              <a:t> = Positive Charge (Nucleus)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Neutrons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= Neutral Charge (Nucleus)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Comic Sans MS"/>
              </a:rPr>
              <a:t>Electrons</a:t>
            </a:r>
            <a:r>
              <a:rPr b="0" lang="en-US" sz="4800" spc="-1" strike="noStrike">
                <a:solidFill>
                  <a:srgbClr val="800000"/>
                </a:solidFill>
                <a:latin typeface="Comic Sans MS"/>
              </a:rPr>
              <a:t> = Negative Charge (Outside)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2210040"/>
          </a:xfrm>
          <a:prstGeom prst="rect">
            <a:avLst/>
          </a:prstGeom>
          <a:solidFill>
            <a:srgbClr val="6efd03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How many more days of school left?????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efd03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cience Fair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76320">
            <a:solidFill>
              <a:srgbClr val="6efd0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u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Friday May 7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o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 Cit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lide Sho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pload o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www.bearcubscience.wikispaces.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6efd03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torm Chaser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480" y="392436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9T11:41:39Z</dcterms:created>
  <dc:creator>Sterling Grade School</dc:creator>
  <dc:description/>
  <dc:language>en-US</dc:language>
  <cp:lastModifiedBy>Sterling Grade School</cp:lastModifiedBy>
  <dcterms:modified xsi:type="dcterms:W3CDTF">2010-04-29T14:38:19Z</dcterms:modified>
  <cp:revision>2</cp:revision>
  <dc:subject/>
  <dc:title>Good Morning </dc:title>
</cp:coreProperties>
</file>